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82245"/>
        <c:axId val="41890910"/>
      </c:barChart>
      <c:catAx>
        <c:axId val="52282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90910"/>
        <c:crosses val="autoZero"/>
        <c:auto val="1"/>
        <c:lblAlgn val="ctr"/>
        <c:lblOffset val="100"/>
        <c:noMultiLvlLbl val="0"/>
      </c:catAx>
      <c:valAx>
        <c:axId val="41890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82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AAE-8ED4-416B-9DCF-47B14216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AE4-3731-4FE9-88B6-C15F61D0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069-CFAA-47F9-A584-B2368C36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33C-5E8A-4658-96FA-15F15AC5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37A-F3C3-41D1-B671-E1782360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A6D-4291-428F-B129-7F26C370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89E3-3567-4BAB-B1D6-11266922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135-3484-498F-BA7C-72AA322D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572-143D-48F0-A341-B289D32B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BB1-8A2A-4D7C-9842-403D4746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D94-9619-46C9-9421-4B3C55B1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FD9-817B-421A-ADE8-6876A284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D27D9-7240-4939-8BA4-BFB4E03F1C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