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84377"/>
        <c:axId val="53716965"/>
      </c:barChart>
      <c:catAx>
        <c:axId val="35884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16965"/>
        <c:crosses val="autoZero"/>
        <c:auto val="1"/>
        <c:lblAlgn val="ctr"/>
        <c:lblOffset val="100"/>
        <c:noMultiLvlLbl val="0"/>
      </c:catAx>
      <c:valAx>
        <c:axId val="53716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4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7C9-7527-4E9B-9EEC-C3E8FA9B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38A-3D92-45B9-ACA1-B6258A4B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B73-A056-4BB5-A4E7-2E07B5F8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529-1B7A-4E65-B64D-E497135E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25D-67F3-443A-A69C-75DE53DA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9CA-56BD-48FA-95F0-6BF439DE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8D2-890B-4ECE-BFA5-84C95AC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266-F260-4B76-964A-9426429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1B4-5944-4D5F-9A6D-AD6A7D9D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E02-2BDD-4B17-A632-3EAEF4F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CAF-BD7C-485A-ADCD-59FC0F7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AFB-5324-4AB6-B8C4-F31BA68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B79F0-377D-4E6B-BAAF-BE73808F0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