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62657"/>
        <c:axId val="45252388"/>
      </c:barChart>
      <c:catAx>
        <c:axId val="17162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2388"/>
        <c:crosses val="autoZero"/>
        <c:auto val="1"/>
        <c:lblAlgn val="ctr"/>
        <c:lblOffset val="100"/>
        <c:noMultiLvlLbl val="0"/>
      </c:catAx>
      <c:valAx>
        <c:axId val="45252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62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F5B-AFB8-415D-8D97-36A14310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ED2-65A5-462B-AFDA-62B8D12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16B-FB63-4F1C-BC4E-CF19B428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C1A-DAF9-4B84-91DE-2B04C57D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EC0-5453-4B23-9A7E-36E6CA43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645-C5A4-4399-BD57-99FAC14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DDD-6975-477B-B9F8-20AFA091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467-AB8E-4678-9FF4-8561E479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737-6693-4D9F-BA4E-B370B825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3E5-8B88-4A6C-9AD6-15B7599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94C-C0E7-42AA-8C20-ACEC5FA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FDE-6C63-47D7-9103-D69C7D0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B80F3-7113-43DF-94E0-3ECB779D8B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