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44166"/>
        <c:axId val="50204088"/>
      </c:barChart>
      <c:catAx>
        <c:axId val="75744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04088"/>
        <c:crosses val="autoZero"/>
        <c:auto val="1"/>
        <c:lblAlgn val="ctr"/>
        <c:lblOffset val="100"/>
        <c:noMultiLvlLbl val="0"/>
      </c:catAx>
      <c:valAx>
        <c:axId val="50204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44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8ED-D74D-44C6-AC4B-95255486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8C2-526F-4D0C-9076-ACC87C70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32E-5435-45E3-9B1B-B63D7572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92B-D444-4D36-BDE3-A8FF7884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6B0-C252-4A81-B69B-0B35C135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335-0F78-49C4-ACEE-1128A7AA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F7D-1D89-4D47-9EB6-E8430871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806-81DF-4EC1-A4CE-256BDE4B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083-4217-475B-A747-BE572EC2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D2C-118D-495B-A8B5-79CD6E6B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792-0306-465A-8F79-A82EC568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CD1-4E47-4366-AEFC-A5630964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0A5EE-88C6-49CB-946E-60E00B968A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