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56702"/>
        <c:axId val="6280240"/>
      </c:barChart>
      <c:catAx>
        <c:axId val="10567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80240"/>
        <c:crosses val="autoZero"/>
        <c:auto val="1"/>
        <c:lblAlgn val="ctr"/>
        <c:lblOffset val="100"/>
        <c:noMultiLvlLbl val="0"/>
      </c:catAx>
      <c:valAx>
        <c:axId val="62802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567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338D-C020-4296-B3DD-4F9FB25A3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9DF9-2323-47BE-8D1B-6A915524F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E63F-38C3-4269-B23F-09977643A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CAA3-C06A-45A5-B963-4D3FFDC7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3DC2-90F8-4400-BF69-BF7FDBD18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DBFD-5D73-41FD-8562-94B440D6E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1AB3-EAEA-4F9B-A6C6-8ECF7A89C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0FE5-EF53-4D50-A4AD-D382C2BBE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2F90-3036-4574-8C4E-44606F61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B247-5B14-4329-95A7-B9CF59F4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D8DE-7888-49A9-9A70-6BE0D113E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4C4E-C439-4F07-8CE0-F27ACF6C4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3B4E1-8BA0-4AA4-9E88-688638DAB4C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