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21862"/>
        <c:axId val="34806865"/>
      </c:barChart>
      <c:catAx>
        <c:axId val="93521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06865"/>
        <c:crosses val="autoZero"/>
        <c:auto val="1"/>
        <c:lblAlgn val="ctr"/>
        <c:lblOffset val="100"/>
        <c:noMultiLvlLbl val="0"/>
      </c:catAx>
      <c:valAx>
        <c:axId val="34806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21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ACE-E599-4855-8CFE-0BD5D43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C02-DA0B-4A2E-95D2-B3043B2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42B-9ECD-438F-BC2B-A73959D8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B80-E5D5-4E2F-8919-11FDE58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DED-1158-4BD3-8C3A-BC97C6D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CD7-E877-4271-90F1-B54B0128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260-4589-4290-B9D2-49795AE2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44B-2D27-4DB1-B438-3470CB73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F25-1F51-4648-9C78-4D58CBD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FA0-5CBE-4B36-ACDE-FAE9FBC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26E-3311-4119-A49F-702A2CD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00A-F704-40BF-B48A-A302B38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16C16-80BB-435B-8BBE-E0E19C3F5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