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847927"/>
        <c:axId val="66576041"/>
      </c:barChart>
      <c:catAx>
        <c:axId val="688479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576041"/>
        <c:crosses val="autoZero"/>
        <c:auto val="1"/>
        <c:lblAlgn val="ctr"/>
        <c:lblOffset val="100"/>
        <c:noMultiLvlLbl val="0"/>
      </c:catAx>
      <c:valAx>
        <c:axId val="665760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8479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2B7F-9732-4113-9789-02285B0A0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FAAD-026C-49E4-B19A-B808B7D83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ABFF-A90D-4077-98F9-BE24F7FA2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CB2F-6BB0-4AC9-A615-E6DDA8BBE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67F5-8F15-4B71-9D5B-A83D4D2CF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7B0D-C619-4759-90A8-607000CB7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B3C6-05AE-4D16-A71E-5336A2AFF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5E55-034B-489F-B4C5-43B7EA888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A1BE-D102-4844-BEFB-5522EC810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CC1D-57F7-445D-9201-E8A9FC07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5BC0-B484-4F0C-A5FB-B64E3411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6C6D-DEAF-4BB1-9758-BFBDB457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2F298F-455A-48D3-8013-28EAADF330D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