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60812"/>
        <c:axId val="76872803"/>
      </c:barChart>
      <c:catAx>
        <c:axId val="62260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2803"/>
        <c:crosses val="autoZero"/>
        <c:auto val="1"/>
        <c:lblAlgn val="ctr"/>
        <c:lblOffset val="100"/>
        <c:noMultiLvlLbl val="0"/>
      </c:catAx>
      <c:valAx>
        <c:axId val="76872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60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306-3CC5-4927-8B85-8D393D60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61F-B6B5-4F5F-871D-BC12F7D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A35-DE70-487B-A201-0BEBD18D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C7C-A779-4CE9-BD71-84FCA6A5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909-0D51-454F-9B57-E074563E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E65-57A5-4864-AC0B-3B40BF5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D77-192D-4DF8-BB30-0686651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ECB-EE15-41AC-B490-12480698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24A-03EC-4000-9309-04833E60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BEE-7775-4013-AB71-2EDF059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B69-3791-4E17-B415-4576363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B2D-DC89-430D-8E9E-6A5E90B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35BDA-2C5C-436D-98B8-54CE7F14FA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