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59000"/>
        <c:axId val="73335030"/>
      </c:barChart>
      <c:catAx>
        <c:axId val="18059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35030"/>
        <c:crosses val="autoZero"/>
        <c:auto val="1"/>
        <c:lblAlgn val="ctr"/>
        <c:lblOffset val="100"/>
        <c:noMultiLvlLbl val="0"/>
      </c:catAx>
      <c:valAx>
        <c:axId val="73335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59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D8C-7249-4500-9F42-27E78BF9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B6D-E713-4233-8F4B-B8529B1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D7F-B450-4F1F-A5FF-57F7B15A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141-B42E-4F9B-80E5-3135537D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804-DEB6-4DE2-ABEF-30EAA8B5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3E0-082D-4E2C-849E-FAE7603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843-ADAE-438E-BBB9-B3AFBF16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9E5-BA1A-407C-BAEE-E12938A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62C-D536-4A02-880B-B07B04CB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934-065F-4F5B-9815-21E02BD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B4C-306F-45FC-9472-F78E86E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70C-70C8-446F-BAF0-6F81D57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7AB7E-CEEC-4772-B149-17BBF3D436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