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11916"/>
        <c:axId val="39959607"/>
      </c:barChart>
      <c:catAx>
        <c:axId val="62311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59607"/>
        <c:crosses val="autoZero"/>
        <c:auto val="1"/>
        <c:lblAlgn val="ctr"/>
        <c:lblOffset val="100"/>
        <c:noMultiLvlLbl val="0"/>
      </c:catAx>
      <c:valAx>
        <c:axId val="39959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11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E11-B797-4E09-8297-B2F111E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B07-604A-4D75-AE70-CC399B2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95A-BC78-49AB-BCC1-3C5AFA49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BCB-42F1-4741-B100-87D77C35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780-5181-4EB9-AA9A-320FD265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F69-DD47-48BF-BE46-7ED0591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2EF-8B5D-4BEB-891A-226EBB8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699-1A47-4017-9A8B-598EDCD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097-9A5B-44FD-A771-D46DFA12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7E3-8B42-4941-9EA8-73B9B4E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2D6-CC3C-485E-A3AB-D58E1F6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16D-6369-4A84-AE16-B0401C2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3C1D-43C1-4782-9918-595C54443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