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95592"/>
        <c:axId val="73810680"/>
      </c:barChart>
      <c:catAx>
        <c:axId val="34795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10680"/>
        <c:crosses val="autoZero"/>
        <c:auto val="1"/>
        <c:lblAlgn val="ctr"/>
        <c:lblOffset val="100"/>
        <c:noMultiLvlLbl val="0"/>
      </c:catAx>
      <c:valAx>
        <c:axId val="73810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5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FF0-3602-43D9-9811-7C3C4831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0B5-187D-40A7-99E2-174D1243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6DEC-5EDC-44BB-90BC-068DE48F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064-D5DE-43F2-8E1F-D5695B01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EBD-4F0C-4992-BDE3-FC5F1BD7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13C-24C3-45E7-BD32-4FF750DB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CF3-7F44-4A8C-AE21-13459360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2DE-0865-4AF0-846A-074D49E7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55F-F1CD-482E-BA7A-C2BF7941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241-F79F-4C79-ADC9-B04E28E7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138-3E04-4DE7-AA85-8B89A89C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C2C-EBD7-4550-AEEC-4258D50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D34E0-CC84-4038-AA27-7FC82DBAC3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