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67487"/>
        <c:axId val="86454872"/>
      </c:barChart>
      <c:catAx>
        <c:axId val="404674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54872"/>
        <c:crosses val="autoZero"/>
        <c:auto val="1"/>
        <c:lblAlgn val="ctr"/>
        <c:lblOffset val="100"/>
        <c:noMultiLvlLbl val="0"/>
      </c:catAx>
      <c:valAx>
        <c:axId val="864548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674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C21-1C0D-46D8-846E-57DC7B480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1FA4-0945-4D95-8BD9-CD046791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E04A-F403-4301-84DF-0A051866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02B-0BA6-4FED-8C64-17C08345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3C42-1BF4-4B9F-9316-BAEBFFC8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B2BD-D911-4A7A-BB0D-AD4C613F9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45C5-1ACA-4BCC-AA28-7045766E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B38-B316-4405-B593-10F426C2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425-002C-43F8-A0DE-3FCC2F46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7BD6-2A33-4A2A-9E89-137D196A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64EE-F121-4736-9A7B-03556CC4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5D76-E499-4B5A-BCE1-1DE37086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55C86-7F48-435D-9127-60E8D3EC1C6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