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214597"/>
        <c:axId val="56156963"/>
      </c:barChart>
      <c:catAx>
        <c:axId val="822145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156963"/>
        <c:crosses val="autoZero"/>
        <c:auto val="1"/>
        <c:lblAlgn val="ctr"/>
        <c:lblOffset val="100"/>
        <c:noMultiLvlLbl val="0"/>
      </c:catAx>
      <c:valAx>
        <c:axId val="561569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2145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36E9-01C6-4996-97FC-140B2F171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71F6-883C-4A86-AAB2-CDA49D8A7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7CBD-79AC-4704-9946-152093AD6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6134-1D57-45E2-A098-0740AF603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FD86-5A0F-4CC3-B434-F8F8B24F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A5B8-58C0-4342-83B7-36564ABD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EE18-729F-423B-9BA6-74A77543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22BD-960C-4346-8D30-5B3BEABD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4721-AB79-46B7-909A-9CFEFD7B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F304-BF1D-4050-98ED-227F0CBE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C6C2-2D54-45F3-8965-2153C107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09F8-A5F3-4862-ABFF-D48FAC85A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8C8622-2C78-455D-9010-F47EC36185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