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471889"/>
        <c:axId val="13080949"/>
      </c:barChart>
      <c:catAx>
        <c:axId val="984718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080949"/>
        <c:crosses val="autoZero"/>
        <c:auto val="1"/>
        <c:lblAlgn val="ctr"/>
        <c:lblOffset val="100"/>
        <c:noMultiLvlLbl val="0"/>
      </c:catAx>
      <c:valAx>
        <c:axId val="130809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4718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B95E-5343-4689-8460-437337333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C7DA-F852-4BCF-946C-D8CC88F31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33E3-5E2B-4304-BEAD-0BE7D995D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8210-A7FF-4C3A-9DC8-B5009DA9E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D1C5-D636-4471-A080-CE0C0FC60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833A-4C33-4242-A39F-D759FF38F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D64A-CFCC-4F11-90CF-DF1BE242C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8036-65E5-444D-B966-89D3B7607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E87E-B8EA-4204-8CCA-F73DF2724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17DF-9F76-4FB3-8A98-7544C486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4195-9E25-4630-89D9-1065427B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C167-713F-40AD-902C-A0C222629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06B919-078F-4ADA-A9E0-525E594313D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