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27986"/>
        <c:axId val="57301543"/>
      </c:barChart>
      <c:catAx>
        <c:axId val="33627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01543"/>
        <c:crosses val="autoZero"/>
        <c:auto val="1"/>
        <c:lblAlgn val="ctr"/>
        <c:lblOffset val="100"/>
        <c:noMultiLvlLbl val="0"/>
      </c:catAx>
      <c:valAx>
        <c:axId val="57301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27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0A8-13C0-42E0-9511-36217E81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D41-7BB0-4EB0-ACC0-0F94CB63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4E-60F3-41F7-8823-44144E1D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369-165D-4A96-B30C-2752A2EB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760-5AAE-42D5-AE95-6E3B0CE2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229-725A-42E9-9BE5-1BB066E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FE2-9232-4D3C-96A0-2ECE858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A74-EC16-4390-9DB5-36F5A97D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DAB-AC29-41AA-8710-FD1F593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82B-13A9-4B83-9786-7387FD8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BC1-266E-4212-B1E7-89DD0CC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B45-917D-4BA7-98EA-77A3A77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702F-D368-472F-9A10-1851216D8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