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5"/>
        <c:axId val="65604801"/>
      </c:barChart>
      <c:catAx>
        <c:axId val="3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04801"/>
        <c:crosses val="autoZero"/>
        <c:auto val="1"/>
        <c:lblAlgn val="ctr"/>
        <c:lblOffset val="100"/>
        <c:noMultiLvlLbl val="0"/>
      </c:catAx>
      <c:valAx>
        <c:axId val="65604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521-943B-4107-B321-84A96F6F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084-28C7-4ED3-B289-FCF0F641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B56D-640A-462F-835E-8A5AC87F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9DA-5432-4F39-AC0D-B250917D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FBB-9DE3-4949-9A4A-0A0AD10F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A96A-47FE-433A-9CB3-36DB1563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5E87-A971-4ACD-ABBF-C88B2761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B52-1254-437E-967D-1FC4CA5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C24-839C-403A-BFC1-A7DFD576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D79-8154-4046-B17C-A3760F2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B4B-1713-453F-997C-35FE723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33B-FC31-4667-84F1-E7CC9A2A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482B8-BF07-4751-B56E-0AA14C3D6D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