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2231"/>
        <c:axId val="68212822"/>
      </c:barChart>
      <c:catAx>
        <c:axId val="2922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12822"/>
        <c:crosses val="autoZero"/>
        <c:auto val="1"/>
        <c:lblAlgn val="ctr"/>
        <c:lblOffset val="100"/>
        <c:noMultiLvlLbl val="0"/>
      </c:catAx>
      <c:valAx>
        <c:axId val="68212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2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77D-687C-442C-B9D9-E5B95823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40E-1964-49FD-A5E4-A8FC779A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AF4-6B13-4E37-BBD9-9EE4CFE1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B04-4D63-4401-A4F0-3559E5F7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FA4-894D-42BE-9CDE-C107F472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0AE-B3ED-4AAB-BFAE-E1C3391B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072-3D8C-4C08-9294-E514A5B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C92-2635-49F5-8C6B-D4C3C41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AD7-1924-48FE-A3CB-4E369F27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D79-13A5-4366-B9D7-D473046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9E5-3151-40E5-B2BC-3620C552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9BF-B960-4091-8C07-B717E6E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9CF4D-7ADB-4B41-A9A2-91D4249347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