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559"/>
        <c:axId val="37621638"/>
      </c:barChart>
      <c:catAx>
        <c:axId val="5402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1638"/>
        <c:crosses val="autoZero"/>
        <c:auto val="1"/>
        <c:lblAlgn val="ctr"/>
        <c:lblOffset val="100"/>
        <c:noMultiLvlLbl val="0"/>
      </c:catAx>
      <c:valAx>
        <c:axId val="37621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903-A974-415A-BCD6-9D3E5E33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9FC-DA3E-4664-B1E4-AAEF7AF4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353-88C3-4858-95FB-810E87F0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CCB-2FA5-4A94-B4F3-E737EBD8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114-56A7-469D-B8DF-06523E43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838-02AB-488C-A1E6-4896EC4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51E-A198-4503-91E6-01600EED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725-7390-4475-871C-45E450F9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E72-E438-40DB-9AC5-628E60C0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77A-BD51-4B49-8BF6-F834852C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D3B-BA86-4BB1-9D49-3451D419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C18-329F-4252-9240-548D54C9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9825E-94DD-49C0-9DE3-50EF42C0CE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