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67908"/>
        <c:axId val="1518568"/>
      </c:barChart>
      <c:catAx>
        <c:axId val="60567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8568"/>
        <c:crosses val="autoZero"/>
        <c:auto val="1"/>
        <c:lblAlgn val="ctr"/>
        <c:lblOffset val="100"/>
        <c:noMultiLvlLbl val="0"/>
      </c:catAx>
      <c:valAx>
        <c:axId val="1518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67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48F-91D0-42A8-8AA0-3A1BA78F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4FA-018C-43E1-9351-0D80F67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01A-20D3-4B5E-A170-0095871B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76D-52A9-45F2-A12B-16D75F1B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E7A-41CC-4E39-8E0E-B7A1845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629-8A1A-486A-A694-34AEF48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404-D271-4429-89CA-B42F23A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01F-4C68-4F4F-B62A-EC8E9225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204-A2DB-42A9-A7CD-7B5065A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F2F-1AB0-4B83-AD8B-E2C3CC6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6A9-1CE1-43B5-9988-A512CEE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F67-F2BD-4070-9E22-3078322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F0938-D477-4A75-9BA9-CE83895C3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