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767648"/>
        <c:axId val="35672068"/>
      </c:barChart>
      <c:catAx>
        <c:axId val="177676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72068"/>
        <c:crosses val="autoZero"/>
        <c:auto val="1"/>
        <c:lblAlgn val="ctr"/>
        <c:lblOffset val="100"/>
        <c:noMultiLvlLbl val="0"/>
      </c:catAx>
      <c:valAx>
        <c:axId val="356720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676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443F-CFE2-4573-A6F8-2D66C1AE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41D2-0E80-4C33-9D32-EB1B49FD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258E-A958-4BC4-811B-9C42BD2F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C8CD-C6E2-4EF9-931C-C016EF6E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EE6D-92AB-46D8-BF5B-B246929A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85BF-7514-4628-A05D-A60527CB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D258-7B0C-42EF-9166-91444842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1B38-A2FE-434B-A19E-C8EDB196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B65E-5CD3-4C61-8184-14429474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51CD-39BF-457E-877B-891B8BD4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9BF9-30F8-40CC-BC00-9DB4C741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C104-D803-41FD-91AB-9B6C2C6F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75149-1616-43A1-8292-440BEF9612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