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41111"/>
        <c:axId val="30585917"/>
      </c:barChart>
      <c:catAx>
        <c:axId val="73941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85917"/>
        <c:crosses val="autoZero"/>
        <c:auto val="1"/>
        <c:lblAlgn val="ctr"/>
        <c:lblOffset val="100"/>
        <c:noMultiLvlLbl val="0"/>
      </c:catAx>
      <c:valAx>
        <c:axId val="30585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1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9FF-330E-4CE8-AD26-2C541A37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E72-A21D-4E95-8D47-79A9B064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270-4BF6-4243-A7C0-ACE38913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651-B637-4F9C-AF4A-904AB811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8E9-1BBA-4910-BE11-E19ECDAF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5EA-9898-44FC-9834-35AE850F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C60-6DF1-4620-8B35-FE5268E4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C4E-E3A9-4C0D-9DE2-FCEF4FD8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563-7350-4BBD-A75C-18C18CB3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67C-D869-44F8-9EFA-02573FB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81C-A8AE-41A5-ADFB-7E99F7A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2DB-115A-45DE-A742-7434462C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B8C9-2D21-4ABF-8210-87927D92A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