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44419"/>
        <c:axId val="87413936"/>
      </c:barChart>
      <c:catAx>
        <c:axId val="48044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13936"/>
        <c:crosses val="autoZero"/>
        <c:auto val="1"/>
        <c:lblAlgn val="ctr"/>
        <c:lblOffset val="100"/>
        <c:noMultiLvlLbl val="0"/>
      </c:catAx>
      <c:valAx>
        <c:axId val="87413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44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178-F1CB-4C35-9DF3-AB625BDC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20B-F887-4BA7-ACB7-11D9A835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588-6DE4-4FD6-9F22-3A2BF88A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941-3FEC-4517-A9AC-9FA13660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4BE-B716-4731-8AAE-B7B2BEF4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8DD-0FD7-4AB7-AB82-B979B191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F01-52A3-4EE8-8C63-D19D0C68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83B-07F8-4757-AABF-9C5A4AD4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0F9-E498-4E98-AA09-636156EE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F7E-4837-4537-889B-EE619C6A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F87-1A0E-4868-90FA-DA1AE2C6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24E-6251-4C58-9B93-F30C2AD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297BC-09EA-4DF3-8389-E87D9D0FE4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