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68777"/>
        <c:axId val="5697063"/>
      </c:barChart>
      <c:catAx>
        <c:axId val="37268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063"/>
        <c:crosses val="autoZero"/>
        <c:auto val="1"/>
        <c:lblAlgn val="ctr"/>
        <c:lblOffset val="100"/>
        <c:noMultiLvlLbl val="0"/>
      </c:catAx>
      <c:valAx>
        <c:axId val="5697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8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0EE-6652-4FCE-A58D-5C9DA2C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C6B-1305-4FBE-9A45-821FA13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043-CE3B-4608-8333-08891728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F86-B4D5-4794-97C2-62C8D8D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22B-6281-416A-ABA5-500A241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586-C0CA-4FDC-9540-C581F7B7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B91-DC55-401F-AFD5-D813C01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702-05CF-4737-B0F2-13558D3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93D-7DE9-44D7-BE30-DBA9D551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9AB-9631-49EC-BB1E-E372A78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F02-C40F-4913-BF98-07DE7FE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A6C-35AC-4A3A-B3C5-D3BB5D0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1C1B6-AA56-4152-81EC-B026AE629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