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3053"/>
        <c:axId val="12986408"/>
      </c:barChart>
      <c:catAx>
        <c:axId val="78973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6408"/>
        <c:crosses val="autoZero"/>
        <c:auto val="1"/>
        <c:lblAlgn val="ctr"/>
        <c:lblOffset val="100"/>
        <c:noMultiLvlLbl val="0"/>
      </c:catAx>
      <c:valAx>
        <c:axId val="12986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3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1CC-FCA9-4600-A40B-076294D0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710-9F5F-4BA8-97C7-271373A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066-B3E1-4399-B449-9F68B22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2A6-6424-4FE2-ACF7-9E64A973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347-943C-4B42-AAA9-9403424C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80A-3F83-4F11-BF06-C3845D7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10A-30A4-4F0A-A7F5-275FDD3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231-26E7-439E-B14C-FAFEA4D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786-70FF-4F5B-9698-8C07F9E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78F-BB69-4123-9CA1-B67F589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A05-6F43-4BB0-B35D-C272D1C8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24-7C82-46A9-9ABC-C809758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64BE-EB15-4DB3-B35A-43BC826FC4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