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80913"/>
        <c:axId val="78402527"/>
      </c:barChart>
      <c:catAx>
        <c:axId val="66080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02527"/>
        <c:crosses val="autoZero"/>
        <c:auto val="1"/>
        <c:lblAlgn val="ctr"/>
        <c:lblOffset val="100"/>
        <c:noMultiLvlLbl val="0"/>
      </c:catAx>
      <c:valAx>
        <c:axId val="78402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80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456-F798-424F-83B5-3BE29888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E57-5CE9-4A18-91D0-9A34858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65E-EA3B-4B34-9558-183D7640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DC3-718C-4A15-B92E-D93E0E47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EDD-6022-4DBF-8C3A-32F220B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FE2-64AB-443E-A868-2C7229C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A56-4003-41B2-ADD7-8B8B30A4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097-3535-4D5B-A787-4ECBA4E1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F95-96C1-4285-9BEE-17C9AEE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8D4-A172-4293-9F8C-CDDFE9A7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414-1635-4F17-B531-76336753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A2D-DDA6-4FD9-BA4A-C11492A1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6CA9-11D3-438D-B9A5-BE9B3748BA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