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92469"/>
        <c:axId val="97733"/>
      </c:barChart>
      <c:catAx>
        <c:axId val="86992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33"/>
        <c:crosses val="autoZero"/>
        <c:auto val="1"/>
        <c:lblAlgn val="ctr"/>
        <c:lblOffset val="100"/>
        <c:noMultiLvlLbl val="0"/>
      </c:catAx>
      <c:valAx>
        <c:axId val="97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92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47E-7084-4A87-8200-AEAE4BF1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B39-23E4-40BA-A14F-778520FA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0C2-86E6-4FE8-B1FA-610C965A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F2D-820D-4D17-9760-4136576F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A0F-C193-42F2-ACBA-EE1FA012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E66-1874-45C6-9423-9AA6ECA1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815-1DFA-42E4-BF09-3EF25FFB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7DC-BB78-4705-A89F-91DB64B9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36CC-0F96-401B-9DB2-DC37C140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0BC-632F-47BE-BF58-DFF2D278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DB9-B95C-4F80-9257-88A0FE90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C51-FA3C-4C82-AA31-9E087424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91DBE-5AA2-4E71-8F37-D0F084B34A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