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4226"/>
        <c:axId val="76873397"/>
      </c:barChart>
      <c:catAx>
        <c:axId val="96504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3397"/>
        <c:crosses val="autoZero"/>
        <c:auto val="1"/>
        <c:lblAlgn val="ctr"/>
        <c:lblOffset val="100"/>
        <c:noMultiLvlLbl val="0"/>
      </c:catAx>
      <c:valAx>
        <c:axId val="76873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4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073-7B82-47BB-8951-6282995B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B8B-1DBD-4B5A-B4E9-23B11B1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11D-6571-482D-8CE9-E99EEB6C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09A-7F3E-49A6-8D63-45C04C0A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618-C66C-4AC8-80B7-0C66C4F0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705-79DF-4744-8102-CE2B9326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AF1-F135-4F7E-8696-445E4A7F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E56-56B6-47D0-9A03-294A0A9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CFF-1C89-4182-A861-1EF2FF97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A80-1361-4919-91CC-B661FB8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E52-FFCC-418A-B192-5E19228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63E-C8F8-4783-89C5-6E01E10B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1728A-58CC-49A1-9C8C-998D83167B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