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227794"/>
        <c:axId val="70780078"/>
      </c:barChart>
      <c:catAx>
        <c:axId val="93227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80078"/>
        <c:crosses val="autoZero"/>
        <c:auto val="1"/>
        <c:lblAlgn val="ctr"/>
        <c:lblOffset val="100"/>
        <c:noMultiLvlLbl val="0"/>
      </c:catAx>
      <c:valAx>
        <c:axId val="70780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227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7F9-A5E4-450E-B545-3225A6C9E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1840-6C75-4AAC-A462-AD876ECE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4596-9F3D-4445-8484-BD49EB14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EAB6-93CD-4CF1-AC78-ABAE26DD5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7C70-C992-4E25-989F-F9917CF5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F9B9-E5A3-42DF-9837-38E741BD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ADB8-22C5-487C-A7AE-DF892500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18A3-D0A3-4FE7-B41A-2DAE51B0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BD5-5F60-4D92-B94B-3897C8CF9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66B9-0906-4823-B84D-B747E082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DC1-9404-4D1F-80AF-BB6C841D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C38-3106-4916-AABB-FF9345F7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B60DE-C28A-47A6-A1BA-737F361F90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