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0019067"/>
        <c:axId val="13230933"/>
      </c:barChart>
      <c:catAx>
        <c:axId val="1001906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230933"/>
        <c:crosses val="autoZero"/>
        <c:auto val="1"/>
        <c:lblAlgn val="ctr"/>
        <c:lblOffset val="100"/>
        <c:noMultiLvlLbl val="0"/>
      </c:catAx>
      <c:valAx>
        <c:axId val="1323093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01906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8E072-98FC-4EC6-9DC3-4293025BB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9986D-90F5-41F5-89BF-0E9D94C0E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015DB-424C-491B-A8F9-571BA932D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D71E0-D55A-4326-A419-AC8175D9C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610C6-B71F-4276-A7DB-CCE8E8645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F961E-071F-4BA3-8D46-E634EA3DA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9A1B9-51DC-4AD2-9912-51A15A1C4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D352E-5240-4989-BAE3-9C534E1BD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EC8BD-A8A4-446A-9A50-9F87A0B41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256DA-A101-4193-BFB6-14FDE2456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FF549-A262-4D03-9283-89D6BE137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07605-A523-46BC-9F92-BCB9B0473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8C5477-BB98-424E-A394-0B34CDD3BAE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