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99372"/>
        <c:axId val="82455557"/>
      </c:barChart>
      <c:catAx>
        <c:axId val="25599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5557"/>
        <c:crosses val="autoZero"/>
        <c:auto val="1"/>
        <c:lblAlgn val="ctr"/>
        <c:lblOffset val="100"/>
        <c:noMultiLvlLbl val="0"/>
      </c:catAx>
      <c:valAx>
        <c:axId val="82455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99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CDF-F381-4470-86A5-F481BA3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B9C-6F71-4527-A98E-C078257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315-CCDD-42DE-928D-11D9D9A1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9A-686D-41E6-9227-DE188235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22F-2C88-46BA-B185-EFA91B86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9FC-9386-48AD-BA2A-22B85F7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7A6-729B-4AD8-A5D3-6995873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0F4-A741-4E46-984A-D449308A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FBC-A72E-4DAE-B5B7-CAC36862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40C-597D-429B-927C-9A68261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6E3-07B8-4D66-A48B-AC8082A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D41-2027-4428-8BE9-A1FA22D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C0AF8-85E5-4D63-9A79-E547BF52F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