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530296"/>
        <c:axId val="33349241"/>
      </c:barChart>
      <c:catAx>
        <c:axId val="415302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349241"/>
        <c:crosses val="autoZero"/>
        <c:auto val="1"/>
        <c:lblAlgn val="ctr"/>
        <c:lblOffset val="100"/>
        <c:noMultiLvlLbl val="0"/>
      </c:catAx>
      <c:valAx>
        <c:axId val="333492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5302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7E5C-8979-45C3-9F5B-63FD123D5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0C8C-15E3-4BC4-AB9A-FC7F6BD61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D6CF-1171-4135-959B-AFD8DC35D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FB49-C694-430E-BC5B-C571FF765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8B78-7A63-4305-8B45-98A037538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A432-1ECD-481D-BDFA-C8E93C061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D17E-F50A-4CF1-8645-378DB8546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816C-CDEC-4B0F-A514-71E3EEDB0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742A-E7E6-430A-AB18-EEA55E28A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E99F-81E7-4C32-A0BF-5A053D3C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5909-3B1A-42CB-9915-F94A9169B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5D35-FCEE-4D24-AF40-396F5FA78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776A60-4396-451F-BF1B-AB774687F0C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