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321139"/>
        <c:axId val="95836254"/>
      </c:barChart>
      <c:catAx>
        <c:axId val="203211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836254"/>
        <c:crosses val="autoZero"/>
        <c:auto val="1"/>
        <c:lblAlgn val="ctr"/>
        <c:lblOffset val="100"/>
        <c:noMultiLvlLbl val="0"/>
      </c:catAx>
      <c:valAx>
        <c:axId val="958362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3211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0CEE-2DCC-4382-97F3-5E1EC5BA6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5EA6-13BE-4030-B4D5-8279D0174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D445-AD63-4BAD-A0F9-DAE71F625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6221-CD1C-4155-8CA9-E5B945053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D8FA-86AA-4CD8-813C-FD0574C11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76F6-A8FA-4A37-A02A-F0B39E223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4B6D-8754-47E2-B049-32276A558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EC8D-3B21-43A2-9A46-65BC9D29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2F37-E041-4618-861E-7E1253C69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AE6F-9178-42B6-A8E6-9A034805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41E7-BA06-4D8B-BC4D-BFFA1ED8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D682-8B71-4706-B1B9-F2BDD8ED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206A0E-C6C8-4C1E-B035-F4872819D5F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