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33207"/>
        <c:axId val="99438219"/>
      </c:barChart>
      <c:catAx>
        <c:axId val="782332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38219"/>
        <c:crosses val="autoZero"/>
        <c:auto val="1"/>
        <c:lblAlgn val="ctr"/>
        <c:lblOffset val="100"/>
        <c:noMultiLvlLbl val="0"/>
      </c:catAx>
      <c:valAx>
        <c:axId val="994382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332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0F1-8AAD-4CF3-9AF3-D92FECC4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B684-926E-4323-ABBA-6173788D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F0D-89C4-4656-B720-1F08AACA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FA3-2667-4440-8815-F7BD7107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214-9927-43F4-8D2F-134442E1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505-0047-4E2C-8AA5-F2D6B4D9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D71-FC6E-4796-A98D-DF5BEFA3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DAF-2EFF-43E2-9A8F-1FF26E0B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18E9-6224-4FFD-96D3-EB8EADA8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27C-9D61-40F7-AB21-B1A0DDE6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54E-113F-4F48-81EB-D13B9741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C9F-DE52-491E-9C19-09DE2870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9EFC8-E3E9-4BA1-A6FB-35F14686C8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