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74104"/>
        <c:axId val="73128133"/>
      </c:barChart>
      <c:catAx>
        <c:axId val="49974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28133"/>
        <c:crosses val="autoZero"/>
        <c:auto val="1"/>
        <c:lblAlgn val="ctr"/>
        <c:lblOffset val="100"/>
        <c:noMultiLvlLbl val="0"/>
      </c:catAx>
      <c:valAx>
        <c:axId val="73128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74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A04-E172-436A-ABB9-82042F3C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A16-80D9-40E5-9CDC-84245A73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443-FC2E-4D3B-A964-7309866F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7AA-70F2-4279-B010-D498B29B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096-3384-48BB-9929-66B7FC9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F94-6E56-4A4C-9E68-AF2ACD8C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D98-B493-42A8-8BBC-6F2D3F99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2A4-6B23-4634-A571-957FC6B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5AB-CEF5-43C2-B07A-AE81E2B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CF1-D0B8-423D-B083-C3026A6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4DA-EA56-4BEF-ADA4-CF7D542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523-7BE5-4183-B337-E2B26585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352BA-7721-4777-BC44-317712F71B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