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97592"/>
        <c:axId val="39561612"/>
      </c:barChart>
      <c:catAx>
        <c:axId val="94897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1612"/>
        <c:crosses val="autoZero"/>
        <c:auto val="1"/>
        <c:lblAlgn val="ctr"/>
        <c:lblOffset val="100"/>
        <c:noMultiLvlLbl val="0"/>
      </c:catAx>
      <c:valAx>
        <c:axId val="39561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7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1C1-FD1D-4736-9718-952DE94F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58D-095E-4196-8C63-62BC8FA6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7A3-6C7B-4357-8058-7F19E046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E73-7805-4E5D-B003-8B7BC360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129-FCED-4B66-B986-5A91235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89F-10BA-47D1-AB83-2BFA6426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91A-C415-418F-938E-B412445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079-1AA7-42F8-A663-02C9967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574-1969-4649-9948-8855481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D1F-51BA-4CBE-AFA9-A753E5D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4C0-B390-43BB-8A8C-7AC71942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668-AAFB-4E3C-8732-4CBC5DB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30DD3-3029-4B10-8EC3-EC2777676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