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7794021"/>
        <c:axId val="72546895"/>
      </c:barChart>
      <c:catAx>
        <c:axId val="2779402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546895"/>
        <c:crosses val="autoZero"/>
        <c:auto val="1"/>
        <c:lblAlgn val="ctr"/>
        <c:lblOffset val="100"/>
        <c:noMultiLvlLbl val="0"/>
      </c:catAx>
      <c:valAx>
        <c:axId val="7254689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79402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C12E8-B97B-43B9-8A05-D1B250666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351D3-63D7-4D8F-8028-67263C8D4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DB4D2-E971-4CD2-BEFF-562F03B4E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A462A-8695-42F6-A7C3-38286F524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3C19E-F0CB-49DF-A48C-F8B26AB8D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85889-FA2B-4F91-9184-FEB379852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DBB6A-774B-4AAB-9927-5E1ACDB62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AC47B-C02A-4F74-875B-45D339C22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184CA-A73A-42D7-8906-35DF59757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736AF-2A53-4A22-8359-BF47373D7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9B30F-286E-4141-9050-34D74986C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4E5FC-BCFD-4702-B32D-DCCEA3B37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873658-73C4-4D66-B232-3553D05A057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