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37056"/>
        <c:axId val="60007949"/>
      </c:barChart>
      <c:catAx>
        <c:axId val="27437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07949"/>
        <c:crosses val="autoZero"/>
        <c:auto val="1"/>
        <c:lblAlgn val="ctr"/>
        <c:lblOffset val="100"/>
        <c:noMultiLvlLbl val="0"/>
      </c:catAx>
      <c:valAx>
        <c:axId val="60007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37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A0F-7BA9-4EA6-97A3-856CE375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75F0-8C94-4B11-8DDE-0331713B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944-E0C3-4D41-97FC-61A56C21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88A7-622B-4B52-AECF-33EEAD72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3DE-3301-40F8-B646-EE200F95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70B0-DECD-40FE-92A2-16D1E2CA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806-09D2-49BD-8CDB-5D60924F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D91-3B21-4348-8F74-E9493C77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2CFD-BA17-45F1-830B-482D2C86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972-C31C-426C-A3AE-71E318F9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C5C-550D-462A-990F-49328BAE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902-FEFC-4F93-ABE1-CF54E9C3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56D7E-C7BC-456D-BD09-63DAEE201E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