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81126"/>
        <c:axId val="64872399"/>
      </c:barChart>
      <c:catAx>
        <c:axId val="95681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72399"/>
        <c:crosses val="autoZero"/>
        <c:auto val="1"/>
        <c:lblAlgn val="ctr"/>
        <c:lblOffset val="100"/>
        <c:noMultiLvlLbl val="0"/>
      </c:catAx>
      <c:valAx>
        <c:axId val="64872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81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EE9-F7A8-43A9-BCE5-E4DEDA31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A05-CD38-4352-B271-7E36BAF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AEA-B82A-442F-B9DC-DC481CD5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102-D544-414B-88C1-B7AEF79E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058-C72A-4EF0-B4C3-AB60BD89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EF3-3C60-4FE9-88F5-0FB7F397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C78-0933-436E-924E-17BBCE66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18B-2E20-4E50-A4CB-67E7BA28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52A-9AD1-434C-9618-6EA19CB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6B3-4CEF-489A-BDFD-6881BA0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DBD-75A2-44BA-8B3E-ABB6598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64E-7BC0-4E63-B0C8-CA2398C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CE2A3-0CEA-49ED-8B98-CA731ABA0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