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34451"/>
        <c:axId val="95626730"/>
      </c:barChart>
      <c:catAx>
        <c:axId val="70434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26730"/>
        <c:crosses val="autoZero"/>
        <c:auto val="1"/>
        <c:lblAlgn val="ctr"/>
        <c:lblOffset val="100"/>
        <c:noMultiLvlLbl val="0"/>
      </c:catAx>
      <c:valAx>
        <c:axId val="95626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34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1E0-A29F-46E9-B3CF-44B6011A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248-93ED-442C-B3C6-20116703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BBA-F5EA-4BD3-BA93-E711C524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3D6-6C20-4EC3-887C-CA345938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D442-A37F-4CF9-9483-BFBB7A81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80A-BEBC-4152-848E-8199C0DA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2AA-D291-4A1D-BAA7-B5828901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D45-BC1F-454C-BE0E-5D1B2B3C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BD3-6FFD-493E-AB1C-EB5224BB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E8D-76D8-4DF9-AB3C-A49D631E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00E-0820-41D0-8C18-E41F1ED5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CA6-241A-4312-B297-45C9AADF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FEDCE-2BF3-48F4-ACDE-4494DB258D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