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231081"/>
        <c:axId val="30815656"/>
      </c:barChart>
      <c:catAx>
        <c:axId val="382310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815656"/>
        <c:crosses val="autoZero"/>
        <c:auto val="1"/>
        <c:lblAlgn val="ctr"/>
        <c:lblOffset val="100"/>
        <c:noMultiLvlLbl val="0"/>
      </c:catAx>
      <c:valAx>
        <c:axId val="308156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2310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1F32-FFCF-4E6C-8CA4-B6A3E6AAB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CEA9-B59C-47E0-AE45-31503FEA7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D83C-8AEA-4A0E-8FA4-6CF17C631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2F82-1168-4254-9C40-523566E42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6675-24B6-42E1-89F8-1A1E41E8E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2637-091C-4CCA-AC02-29E2001D7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0B43-03AF-40DD-BD32-F0BCC9103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5388-63E2-4FF6-A2BB-09DE7A591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BC8F-5CE0-404F-8904-37ED8E86A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07FC-9F57-47A5-9353-E549AADDE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6F6B-19D9-472D-863C-9EDAC67B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82F9-B132-4C5D-80AA-01CA85AB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590F49-C5B5-4D5B-BE65-220676962DF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