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53457"/>
        <c:axId val="88357124"/>
      </c:barChart>
      <c:catAx>
        <c:axId val="83153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7124"/>
        <c:crosses val="autoZero"/>
        <c:auto val="1"/>
        <c:lblAlgn val="ctr"/>
        <c:lblOffset val="100"/>
        <c:noMultiLvlLbl val="0"/>
      </c:catAx>
      <c:valAx>
        <c:axId val="88357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3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F82-AB8F-426A-96E0-8290E8E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9B9-40D3-4C31-B399-656BA40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D22-038C-46DA-8E81-C7FDE33D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AA5-E206-42D3-899D-606DF1F8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DD6-2A9C-4CCB-9516-681A3BF8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904-222E-4781-A16F-516EB734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BC8-00B7-4CF8-9313-B2D08037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520-EF44-4387-ABD9-23DEB78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8CB-6F42-4864-9103-EB4E36F5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8C7-A1A7-4B9D-98D4-4D70E57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173-45E5-4BF7-9124-C754126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C42-7897-4A6E-8AE1-2425EDF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9487-D930-4DBD-A62A-51BD2C07CB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