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82219"/>
        <c:axId val="99974759"/>
      </c:barChart>
      <c:catAx>
        <c:axId val="27982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74759"/>
        <c:crosses val="autoZero"/>
        <c:auto val="1"/>
        <c:lblAlgn val="ctr"/>
        <c:lblOffset val="100"/>
        <c:noMultiLvlLbl val="0"/>
      </c:catAx>
      <c:valAx>
        <c:axId val="99974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82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DAB-7584-42C5-954B-5628951A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C45-6E87-42B1-9ACF-4BB9E5A4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17B-7ED8-4CBF-8121-3FC3CF6A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736-1CD0-4BC2-9C2E-DD7CE667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7AC-BCEE-4290-B907-444E32A7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F8E-9DB1-44DB-BE3F-280CA1C0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F7A-E7A3-4202-94BF-15195AE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27E-CDCE-4410-A992-40D36216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6FB-4B1E-41C7-93F3-2AC4F272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45E-9A58-4FEF-8178-54724EB6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D71-E273-4304-A389-E785BD7D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B20-C8B1-4BAA-B2E1-78D426B0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B8C19-80EB-4118-A246-51BC2FCFAB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