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27703"/>
        <c:axId val="21994762"/>
      </c:barChart>
      <c:catAx>
        <c:axId val="88727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94762"/>
        <c:crosses val="autoZero"/>
        <c:auto val="1"/>
        <c:lblAlgn val="ctr"/>
        <c:lblOffset val="100"/>
        <c:noMultiLvlLbl val="0"/>
      </c:catAx>
      <c:valAx>
        <c:axId val="21994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27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022-34B6-4C7F-839D-29E581CC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C05-D2EE-43FE-8375-FF13FA4E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C9F-C0A4-46D8-8D74-C6800008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227-E8A8-4A74-946F-17FF3295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2D9-0986-4E94-B949-4732A4B6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811-E8B3-426E-8504-0B2D771F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D0A-1A88-4A77-8CF1-7FAAC445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CFE-1623-42A4-B04D-19C9B9F6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C45-2F8C-4EDB-BDA2-87F778E2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1C5-9BD1-4DF7-85C1-C9EC77EE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310-0DF1-4E11-87CC-77E843C8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EEA-7C69-4952-8EB9-B363334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D3529-3828-492F-872E-B4D2316F14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