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5383"/>
        <c:axId val="52282628"/>
      </c:barChart>
      <c:catAx>
        <c:axId val="8425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82628"/>
        <c:crosses val="autoZero"/>
        <c:auto val="1"/>
        <c:lblAlgn val="ctr"/>
        <c:lblOffset val="100"/>
        <c:noMultiLvlLbl val="0"/>
      </c:catAx>
      <c:valAx>
        <c:axId val="52282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5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A73-DCC0-4428-B895-DCBA832B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B86-801E-4F41-A5D3-9BA872BD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0E1-A244-47AA-B52A-83C46A8E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C98-23FE-462A-8F32-8C8C6776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D58-317E-4ADA-AE25-72E48D8B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892-6CAB-4C82-9CC1-02A91ED2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451-10CD-46A9-ACA7-14CAE44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B66-441F-46F3-A606-BD31452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3D8-D0F2-4C49-9AE0-32B46872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178-BC2D-4F80-9D2E-78A541DF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C62-BE29-445E-A050-5BED5C6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71B-BD2E-43C9-8595-A2070CCD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73B90-E1ED-46E1-8952-549B82155B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