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52245"/>
        <c:axId val="8177000"/>
      </c:barChart>
      <c:catAx>
        <c:axId val="630522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7000"/>
        <c:crosses val="autoZero"/>
        <c:auto val="1"/>
        <c:lblAlgn val="ctr"/>
        <c:lblOffset val="100"/>
        <c:noMultiLvlLbl val="0"/>
      </c:catAx>
      <c:valAx>
        <c:axId val="8177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522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B3A-C00C-4F21-BC06-9016E4CA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558A-95EE-4DD7-B7B2-11844630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C26-F414-45F1-98F8-41D8A185D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68E3-4907-4E25-BE3E-CCEF0119D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5879-DE07-4BE6-AB10-8CF9AC2C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3514-8232-4E48-BBFC-5BC90E1D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F4D-2CCE-449C-BF32-85F88DBE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165B-E87C-40A1-A6B5-A2CB8256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400-1353-4511-83F7-739476DA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147E-87BC-4599-BA3B-327244C2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D4D2-89CB-461E-BABF-3E5BC562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AE5-A22B-49C6-A044-F04ABD1B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51ABE-9D89-4DEE-B33A-0E5403CA4B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