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25769"/>
        <c:axId val="99938656"/>
      </c:barChart>
      <c:catAx>
        <c:axId val="81825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38656"/>
        <c:crosses val="autoZero"/>
        <c:auto val="1"/>
        <c:lblAlgn val="ctr"/>
        <c:lblOffset val="100"/>
        <c:noMultiLvlLbl val="0"/>
      </c:catAx>
      <c:valAx>
        <c:axId val="99938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25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FAB-ADC2-4566-A333-EC2B2D26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489-3261-4237-96EC-265F03C0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5E3-427D-48CE-A85D-6A869357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A68-7F25-4C8E-9655-1D383C32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1E9-21C7-4DD2-96CF-3E09F4B6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3C5-6A5A-41D9-B9B7-07E51852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8E2-7277-478F-B8F7-34775336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169-AC39-4321-8365-695F221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A74-1332-4ED3-A711-094C95B3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B7F-A93E-4A2A-A5DF-93A40F20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CEA-FAD3-4FFC-A521-0A53A75D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D05-9E5C-41CB-8F1F-D27B66C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CF3BA-4AE0-4FC2-A913-18632D41BA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