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6149"/>
        <c:axId val="3536679"/>
      </c:barChart>
      <c:catAx>
        <c:axId val="1996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6679"/>
        <c:crosses val="autoZero"/>
        <c:auto val="1"/>
        <c:lblAlgn val="ctr"/>
        <c:lblOffset val="100"/>
        <c:noMultiLvlLbl val="0"/>
      </c:catAx>
      <c:valAx>
        <c:axId val="3536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6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54C-5FB7-47E5-970C-CF8FB24F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B80-B9BE-4D61-B10B-08FB544F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8C7E-8A88-4C82-A569-BCA153DB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D70-CE90-4B26-B1F0-0AD4F639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888-5474-42C9-AE8F-53E211D2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73C-A0F7-4F91-889F-BB504850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9CA-677D-4251-9B13-A72562EC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710-EFAE-40E1-BA71-079BF764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6F7-6F5F-4644-9A22-8AD62EE1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265-1287-4CEA-B119-97E7A614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6E9-BEEE-409E-8978-777BF680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28E-4252-4F3F-A9DA-DE647CD7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17077-274F-4B48-B465-249DCC1389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