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50457"/>
        <c:axId val="14447091"/>
      </c:barChart>
      <c:catAx>
        <c:axId val="69850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7091"/>
        <c:crosses val="autoZero"/>
        <c:auto val="1"/>
        <c:lblAlgn val="ctr"/>
        <c:lblOffset val="100"/>
        <c:noMultiLvlLbl val="0"/>
      </c:catAx>
      <c:valAx>
        <c:axId val="1444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50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569-C054-4C2E-A4B4-D83D59A7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C5D-D5E8-402C-8AEA-7FF31B2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343-EBE0-480D-BE72-124221B6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022-7ADC-4788-857B-4D5AA370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D2F-B4E8-4FC3-A6E2-DCF1414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1B8-EE32-4481-BA04-6DB7FBA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E66-565B-48B5-9516-74023B13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B4F-DF05-4632-BA18-D320ADD4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81D-D248-40A5-A622-803E174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6F1-F86D-4AD0-A119-2D6FAEF6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EF6-0643-4551-A58F-72202D4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B34-D838-464F-89D7-8AC88BF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DB13B-CCE2-4DA3-82EF-8BB65F7D7C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